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B209-C3C2-44B4-B56F-A34821F8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C64A-A367-4A2D-8D5C-BD309D68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E577-D2A7-4F37-84B6-2B010278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0034-3C7A-4941-A6FF-5EBB39134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B2FA-EFE1-4104-81D3-0A300F72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2209-2D89-4EEF-A81C-52B82F3E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9CB7-FC81-40A0-A611-A117FA77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DF8C-E6BF-4C54-8FEA-791198E9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2B3F-C698-43B2-A450-82741CB9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6D09-A836-487F-A939-DAC7704F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A199-6A4C-434E-B3C7-18C3952A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13E7-3522-4927-A11E-EE7988BB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C61F-1E80-485C-AA79-CAFC25C0E3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142640"/>
            <a:ext cx="7772400" cy="31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 урока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АНИЯ,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Calibri"/>
              </a:rPr>
              <a:t>их классификация и свойства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3" descr="81JGICAPR1JV6CAAPRMJ5CAN9H8B9CANSP2G3CAOE2Q75CAAOLFE1CA3FTKZ1CAJZU90XCAFLD006CA0FQS7LCAPMCSS4CAVIS5IKCAKQZIJ4CAOCTLRHCAPPIBOMCAPS0QHQCA882ZRUCAVR6VMOCA7CLXSX.jpg"/>
          <p:cNvPicPr/>
          <p:nvPr/>
        </p:nvPicPr>
        <p:blipFill>
          <a:blip r:embed="rId1"/>
          <a:stretch/>
        </p:blipFill>
        <p:spPr>
          <a:xfrm>
            <a:off x="5219640" y="4294080"/>
            <a:ext cx="1857600" cy="1017720"/>
          </a:xfrm>
          <a:prstGeom prst="rect">
            <a:avLst/>
          </a:prstGeom>
          <a:ln w="9360">
            <a:solidFill>
              <a:srgbClr val="435faa"/>
            </a:solidFill>
            <a:miter/>
          </a:ln>
        </p:spPr>
      </p:pic>
      <p:pic>
        <p:nvPicPr>
          <p:cNvPr id="43" name="Рисунок 4" descr="FOB79CAXKHPPNCAF0CMGECAK92GDCCAA0EM3ICAH3A9F4CA0Y1RTJCAR76CZ4CAXQ68FDCA3B9Z28CALF0R8GCAOXZUNECA3PYWK0CA7V5L5ECAOEUA91CAZW1KGGCAGEO1Y0CACBJIXGCA38F8N4CAPPZ5JM.jpg"/>
          <p:cNvPicPr/>
          <p:nvPr/>
        </p:nvPicPr>
        <p:blipFill>
          <a:blip r:embed="rId2"/>
          <a:stretch/>
        </p:blipFill>
        <p:spPr>
          <a:xfrm>
            <a:off x="428760" y="428760"/>
            <a:ext cx="1672920" cy="2000160"/>
          </a:xfrm>
          <a:prstGeom prst="rect">
            <a:avLst/>
          </a:prstGeom>
          <a:ln w="9360">
            <a:solidFill>
              <a:srgbClr val="2c3f71"/>
            </a:solidFill>
            <a:miter/>
          </a:ln>
        </p:spPr>
      </p:pic>
      <p:pic>
        <p:nvPicPr>
          <p:cNvPr id="44" name="Picture 2" descr="C:\Documents and Settings\Админ\Мои документы\Мои рисунки\KOH.jpg"/>
          <p:cNvPicPr/>
          <p:nvPr/>
        </p:nvPicPr>
        <p:blipFill>
          <a:blip r:embed="rId3"/>
          <a:stretch/>
        </p:blipFill>
        <p:spPr>
          <a:xfrm>
            <a:off x="6732720" y="5311800"/>
            <a:ext cx="1904760" cy="1047600"/>
          </a:xfrm>
          <a:prstGeom prst="rect">
            <a:avLst/>
          </a:prstGeom>
          <a:ln w="9360">
            <a:solidFill>
              <a:srgbClr val="7fd13b"/>
            </a:solidFill>
            <a:miter/>
          </a:ln>
        </p:spPr>
      </p:pic>
      <p:sp>
        <p:nvSpPr>
          <p:cNvPr id="45" name="TextBox 5"/>
          <p:cNvSpPr/>
          <p:nvPr/>
        </p:nvSpPr>
        <p:spPr>
          <a:xfrm>
            <a:off x="179280" y="5373720"/>
            <a:ext cx="49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ловьёва Наталья Никола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химии и би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Бажирская О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24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http://images.myshared.ru/4/220938/slide_3.jpg"/>
          <p:cNvPicPr/>
          <p:nvPr/>
        </p:nvPicPr>
        <p:blipFill>
          <a:blip r:embed="rId1"/>
          <a:stretch/>
        </p:blipFill>
        <p:spPr>
          <a:xfrm>
            <a:off x="539640" y="404640"/>
            <a:ext cx="7993080" cy="59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428760" y="0"/>
            <a:ext cx="911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зменение цвета индикатора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кисло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https://present5.com/presentation/1/276359328_438515545.pdf-img/276359328_438515545.pdf-11.jpg"/>
          <p:cNvPicPr/>
          <p:nvPr/>
        </p:nvPicPr>
        <p:blipFill>
          <a:blip r:embed="rId1"/>
          <a:stretch/>
        </p:blipFill>
        <p:spPr>
          <a:xfrm>
            <a:off x="900000" y="7650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785880" y="0"/>
            <a:ext cx="742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Физические свойства основа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2" descr="гидроксид натрия.jpg"/>
          <p:cNvPicPr/>
          <p:nvPr/>
        </p:nvPicPr>
        <p:blipFill>
          <a:blip r:embed="rId1"/>
          <a:stretch/>
        </p:blipFill>
        <p:spPr>
          <a:xfrm>
            <a:off x="500040" y="4286160"/>
            <a:ext cx="1643040" cy="1254240"/>
          </a:xfrm>
          <a:prstGeom prst="rect">
            <a:avLst/>
          </a:prstGeom>
          <a:ln w="9360">
            <a:solidFill>
              <a:srgbClr val="b2e389"/>
            </a:solidFill>
            <a:miter/>
          </a:ln>
        </p:spPr>
      </p:pic>
      <p:pic>
        <p:nvPicPr>
          <p:cNvPr id="93" name="Рисунок 3" descr="гидроксид бария.jpg"/>
          <p:cNvPicPr/>
          <p:nvPr/>
        </p:nvPicPr>
        <p:blipFill>
          <a:blip r:embed="rId2"/>
          <a:stretch/>
        </p:blipFill>
        <p:spPr>
          <a:xfrm>
            <a:off x="500040" y="1785960"/>
            <a:ext cx="1571760" cy="1285920"/>
          </a:xfrm>
          <a:prstGeom prst="rect">
            <a:avLst/>
          </a:prstGeom>
          <a:ln w="9360">
            <a:solidFill>
              <a:srgbClr val="b2e389"/>
            </a:solidFill>
            <a:miter/>
          </a:ln>
        </p:spPr>
      </p:pic>
      <p:pic>
        <p:nvPicPr>
          <p:cNvPr id="94" name="Рисунок 4" descr="гидроксид кальция.jpg"/>
          <p:cNvPicPr/>
          <p:nvPr/>
        </p:nvPicPr>
        <p:blipFill>
          <a:blip r:embed="rId3"/>
          <a:stretch/>
        </p:blipFill>
        <p:spPr>
          <a:xfrm>
            <a:off x="3786120" y="1714680"/>
            <a:ext cx="1643040" cy="1298520"/>
          </a:xfrm>
          <a:prstGeom prst="rect">
            <a:avLst/>
          </a:prstGeom>
          <a:ln w="9360">
            <a:solidFill>
              <a:srgbClr val="b2e389"/>
            </a:solidFill>
            <a:miter/>
          </a:ln>
        </p:spPr>
      </p:pic>
      <p:pic>
        <p:nvPicPr>
          <p:cNvPr id="95" name="Рисунок 5" descr="гидроксид кобальта.jpg"/>
          <p:cNvPicPr/>
          <p:nvPr/>
        </p:nvPicPr>
        <p:blipFill>
          <a:blip r:embed="rId4"/>
          <a:stretch/>
        </p:blipFill>
        <p:spPr>
          <a:xfrm>
            <a:off x="6929280" y="4286160"/>
            <a:ext cx="1711440" cy="1284480"/>
          </a:xfrm>
          <a:prstGeom prst="rect">
            <a:avLst/>
          </a:prstGeom>
          <a:ln w="9360">
            <a:solidFill>
              <a:srgbClr val="b2e389"/>
            </a:solidFill>
            <a:miter/>
          </a:ln>
        </p:spPr>
      </p:pic>
      <p:pic>
        <p:nvPicPr>
          <p:cNvPr id="96" name="Рисунок 6" descr="гидроксид лития.jpg"/>
          <p:cNvPicPr/>
          <p:nvPr/>
        </p:nvPicPr>
        <p:blipFill>
          <a:blip r:embed="rId5"/>
          <a:stretch/>
        </p:blipFill>
        <p:spPr>
          <a:xfrm>
            <a:off x="6858000" y="1714680"/>
            <a:ext cx="1736640" cy="1411200"/>
          </a:xfrm>
          <a:prstGeom prst="rect">
            <a:avLst/>
          </a:prstGeom>
          <a:ln w="9360">
            <a:solidFill>
              <a:srgbClr val="b2e389"/>
            </a:solidFill>
            <a:miter/>
          </a:ln>
        </p:spPr>
      </p:pic>
      <p:pic>
        <p:nvPicPr>
          <p:cNvPr id="97" name="Рисунок 7" descr="CopperChlorideBasic.jpg"/>
          <p:cNvPicPr/>
          <p:nvPr/>
        </p:nvPicPr>
        <p:blipFill>
          <a:blip r:embed="rId6"/>
          <a:stretch/>
        </p:blipFill>
        <p:spPr>
          <a:xfrm>
            <a:off x="3786120" y="4286160"/>
            <a:ext cx="1643040" cy="1349640"/>
          </a:xfrm>
          <a:prstGeom prst="rect">
            <a:avLst/>
          </a:prstGeom>
          <a:ln w="9360">
            <a:solidFill>
              <a:srgbClr val="b2e389"/>
            </a:solidFill>
            <a:miter/>
          </a:ln>
        </p:spPr>
      </p:pic>
      <p:sp>
        <p:nvSpPr>
          <p:cNvPr id="98" name="TextBox 8"/>
          <p:cNvSpPr/>
          <p:nvPr/>
        </p:nvSpPr>
        <p:spPr>
          <a:xfrm>
            <a:off x="500040" y="328608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(OH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6929280" y="5857920"/>
            <a:ext cx="17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(OH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571680" y="585792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3786120" y="328608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(OH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6929280" y="3357720"/>
            <a:ext cx="16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O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3786120" y="5929200"/>
            <a:ext cx="16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(OH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187280" y="3621240"/>
          <a:ext cx="3745080" cy="2093760"/>
        </p:xfrm>
        <a:graphic>
          <a:graphicData uri="http://schemas.openxmlformats.org/drawingml/2006/table">
            <a:tbl>
              <a:tblPr/>
              <a:tblGrid>
                <a:gridCol w="2089440"/>
                <a:gridCol w="1655640"/>
              </a:tblGrid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. В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 К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. Гидроксид железа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. Хлорид ка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H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. Оксид углерода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V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H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. Гидроксид нат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. Серная кисл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Rectangle 1"/>
          <p:cNvSpPr/>
          <p:nvPr/>
        </p:nvSpPr>
        <p:spPr>
          <a:xfrm>
            <a:off x="395280" y="149040"/>
            <a:ext cx="7848720" cy="39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ние №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аны веще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O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O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O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NO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CO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Назвать щелоч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ние №2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станови соответствие (выбор буквы и соответствующей ей циф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684360" y="0"/>
            <a:ext cx="742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ОТВЕ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"/>
          <p:cNvSpPr/>
          <p:nvPr/>
        </p:nvSpPr>
        <p:spPr>
          <a:xfrm>
            <a:off x="833400" y="981000"/>
            <a:ext cx="7129440" cy="69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ние №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H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3 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-гидроксид аллюми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OH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-гидроксид ка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H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–гидроксид б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OH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–гидроксид на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H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–гидроксид каль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H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–гидроксид железа (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II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  <a:ea typeface="Times New Roman"/>
              </a:rPr>
              <a:t>Задание №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3. Б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5.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А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4. Е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  <a:ea typeface="Times New Roman"/>
              </a:rPr>
              <a:t>6.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"/>
          <p:cNvSpPr/>
          <p:nvPr/>
        </p:nvSpPr>
        <p:spPr>
          <a:xfrm>
            <a:off x="611280" y="836640"/>
            <a:ext cx="7200720" cy="49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Calibri"/>
              </a:rPr>
              <a:t>Тест по 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Нерастворимыми основаниями являются каждое из двух основани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Al(OH)3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Fe(OH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Cu(OH)2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Ca(OH)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B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O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)2 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NaOH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. Zn(OH)2 и KO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Только индикатором на щелочи явля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Метилоранж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Фенолфтале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Лакмус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Малино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В перечне веществ выберите формулы основа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NH4O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CaOHC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. CaCl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4. Mg(OH)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5. RbOH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6. Ca(HCO3)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1258920" y="765000"/>
            <a:ext cx="612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§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Calibri"/>
              </a:rPr>
              <a:t> 41, ответить на 1,2 вопросы. Подготовить (по желанию) содержательную информацию «Использование оснований в быту и медицине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2"/>
          <p:cNvSpPr/>
          <p:nvPr/>
        </p:nvSpPr>
        <p:spPr>
          <a:xfrm>
            <a:off x="1258920" y="185760"/>
            <a:ext cx="70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флекс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2"/>
          <p:cNvSpPr/>
          <p:nvPr/>
        </p:nvSpPr>
        <p:spPr>
          <a:xfrm>
            <a:off x="620640" y="709560"/>
            <a:ext cx="8209080" cy="56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тча </a:t>
            </a:r>
            <a:br>
              <a:rPr sz="20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ёл мудрец, а навстречу ему три человека, которые везли под горячим солнцем тележки с камнями для строительства. Мудрец остановился и задал каждому по вопросу. У первого спросил: «Что ты делал целый день?» И тот с ухмылкой ответил, что целый день возил проклятые камни. У второго мудрец спросил: «А что ты делал целый день?», и тот ответил: «А я добросовестно выполнял свою работу». А третий улыбнулся, его лицо засветилось радостью и удовольствием: «А я принимал участие в строительстве храма!»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бята! Давайте мы попробуем с вами оценить каждый свою работу за урок.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то работал так, как на каторге?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нимают красные кружочки.)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то работал добросовестно?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нимают желтые кружочки.)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то принимал участие в строительстве храма?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нимают зеленые кружочки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1187280" y="836640"/>
            <a:ext cx="56707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День прожит не зр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ты узнал что-то ново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уро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C:\Users\Марина\Desktop\ghllcudmxhk.jpg"/>
          <p:cNvPicPr/>
          <p:nvPr/>
        </p:nvPicPr>
        <p:blipFill>
          <a:blip r:embed="rId1"/>
          <a:stretch/>
        </p:blipFill>
        <p:spPr>
          <a:xfrm>
            <a:off x="5796000" y="2781360"/>
            <a:ext cx="3065400" cy="21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Заголовок 1"/>
          <p:cNvSpPr/>
          <p:nvPr/>
        </p:nvSpPr>
        <p:spPr>
          <a:xfrm>
            <a:off x="1434960" y="274680"/>
            <a:ext cx="374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гад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1469880" y="1773360"/>
            <a:ext cx="552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244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в паре элементов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ислород вторым стоит,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ы же знаешь, эта пара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ывается … (    </a:t>
            </a:r>
            <a:r>
              <a:rPr b="1" lang="ru-RU" sz="36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282600" y="11160"/>
            <a:ext cx="8640720" cy="7892280"/>
          </a:xfrm>
          <a:prstGeom prst="rect">
            <a:avLst/>
          </a:prstGeom>
          <a:solidFill>
            <a:srgbClr val="ca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orbel"/>
              </a:rPr>
              <a:t>Распределить вещества по класса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a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gOH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aO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l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Zn(OH)2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gO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NaOH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Cu(OH)2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iO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3780000" y="765000"/>
            <a:ext cx="128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KO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5943600" y="736560"/>
            <a:ext cx="242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g(OH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4714920" y="177336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LiO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6586560" y="1773360"/>
            <a:ext cx="214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Fe(OH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1994040" y="5877000"/>
            <a:ext cx="242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a(OH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5219640" y="5877000"/>
            <a:ext cx="235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a(OH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4"/>
          <p:cNvSpPr/>
          <p:nvPr/>
        </p:nvSpPr>
        <p:spPr>
          <a:xfrm>
            <a:off x="6875640" y="4686480"/>
            <a:ext cx="221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l(OH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157a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157a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157a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157a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157a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157a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a157a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142920" y="857160"/>
            <a:ext cx="8858160" cy="5943240"/>
          </a:xfrm>
          <a:prstGeom prst="rect">
            <a:avLst/>
          </a:prstGeom>
          <a:solidFill>
            <a:srgbClr val="caf7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aO     P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            HCl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Cu(OH)2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Zn(OH)2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NaOH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NO    CaO   Al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3714840" y="857160"/>
            <a:ext cx="128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KO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6572160" y="857160"/>
            <a:ext cx="242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Mg(OH)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4711680" y="2349360"/>
            <a:ext cx="142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LiO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6715080" y="2286000"/>
            <a:ext cx="214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Fe(OH)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4211640" y="3819600"/>
            <a:ext cx="242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Ca(OH)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3"/>
          <p:cNvSpPr/>
          <p:nvPr/>
        </p:nvSpPr>
        <p:spPr>
          <a:xfrm>
            <a:off x="6558120" y="3819600"/>
            <a:ext cx="235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Ba(OH)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4"/>
          <p:cNvSpPr/>
          <p:nvPr/>
        </p:nvSpPr>
        <p:spPr>
          <a:xfrm>
            <a:off x="285840" y="5214960"/>
            <a:ext cx="221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Al(OH)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2"/>
          <p:cNvSpPr/>
          <p:nvPr/>
        </p:nvSpPr>
        <p:spPr>
          <a:xfrm>
            <a:off x="1751040" y="1052640"/>
            <a:ext cx="54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то нам нужно узн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одзаголовок 2"/>
          <p:cNvSpPr/>
          <p:nvPr/>
        </p:nvSpPr>
        <p:spPr>
          <a:xfrm>
            <a:off x="355680" y="1844640"/>
            <a:ext cx="85010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484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i="1" lang="ru-RU" sz="2600" spc="-1" strike="noStrike">
                <a:solidFill>
                  <a:srgbClr val="002060"/>
                </a:solidFill>
                <a:latin typeface="Century Schoolbook"/>
              </a:rPr>
              <a:t>определение понятия - основа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4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entury Schoolbook"/>
              </a:rPr>
              <a:t>   </a:t>
            </a:r>
            <a:r>
              <a:rPr b="1" i="1" lang="ru-RU" sz="2600" spc="-1" strike="noStrike">
                <a:solidFill>
                  <a:srgbClr val="002060"/>
                </a:solidFill>
                <a:latin typeface="Century Schoolbook"/>
              </a:rPr>
              <a:t>классификацию основан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4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entury Schoolbook"/>
              </a:rPr>
              <a:t>   </a:t>
            </a:r>
            <a:r>
              <a:rPr b="1" i="1" lang="ru-RU" sz="2600" spc="-1" strike="noStrike">
                <a:solidFill>
                  <a:srgbClr val="002060"/>
                </a:solidFill>
                <a:latin typeface="Century Schoolbook"/>
              </a:rPr>
              <a:t>физические свойства основан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2568240" y="3645000"/>
            <a:ext cx="46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entury Schoolbook"/>
              </a:rPr>
              <a:t>Чему мы должны научить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5"/>
          <p:cNvSpPr/>
          <p:nvPr/>
        </p:nvSpPr>
        <p:spPr>
          <a:xfrm>
            <a:off x="465120" y="429264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entury Schoolbook"/>
              </a:rPr>
              <a:t>  </a:t>
            </a:r>
            <a:r>
              <a:rPr b="1" i="1" lang="ru-RU" sz="2400" spc="-1" strike="noStrike">
                <a:solidFill>
                  <a:srgbClr val="002060"/>
                </a:solidFill>
                <a:latin typeface="Century Schoolbook"/>
              </a:rPr>
              <a:t>различать основания при помoщи индикатo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entury Schoolbook"/>
              </a:rPr>
              <a:t>  </a:t>
            </a:r>
            <a:r>
              <a:rPr b="1" i="1" lang="ru-RU" sz="2400" spc="-1" strike="noStrike">
                <a:solidFill>
                  <a:srgbClr val="002060"/>
                </a:solidFill>
                <a:latin typeface="Century Schoolbook"/>
              </a:rPr>
              <a:t>пользoваться Периодическoй системoй химических элементов  Д.И. Менделеева и таблицей растворим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entury Schoolbook"/>
              </a:rPr>
              <a:t>  </a:t>
            </a:r>
            <a:r>
              <a:rPr b="1" i="1" lang="ru-RU" sz="2400" spc="-1" strike="noStrike">
                <a:solidFill>
                  <a:srgbClr val="002060"/>
                </a:solidFill>
                <a:latin typeface="Century Schoolbook"/>
              </a:rPr>
              <a:t>сoблюдать ТБ при обращении с щелоч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8"/>
          <p:cNvSpPr/>
          <p:nvPr/>
        </p:nvSpPr>
        <p:spPr>
          <a:xfrm>
            <a:off x="1398600" y="260280"/>
            <a:ext cx="69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Century Schoolbook"/>
              </a:rPr>
              <a:t>«Основания, их классификация и свойст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785880" y="285840"/>
            <a:ext cx="764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Основ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142920" y="1285920"/>
            <a:ext cx="8786880" cy="1922400"/>
          </a:xfrm>
          <a:prstGeom prst="rect">
            <a:avLst/>
          </a:prstGeom>
          <a:gradFill rotWithShape="0">
            <a:gsLst>
              <a:gs pos="0">
                <a:srgbClr val="bcff95"/>
              </a:gs>
              <a:gs pos="100000">
                <a:srgbClr val="ecffe1"/>
              </a:gs>
            </a:gsLst>
            <a:lin ang="16200000"/>
          </a:gradFill>
          <a:ln w="9360">
            <a:solidFill>
              <a:srgbClr val="7cd03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- это сложные вещества, состоящие из </a:t>
            </a:r>
            <a:r>
              <a:rPr b="0" lang="ru-RU" sz="4000" spc="-1" strike="noStrike" u="sng">
                <a:solidFill>
                  <a:srgbClr val="002060"/>
                </a:solidFill>
                <a:uFillTx/>
                <a:latin typeface="Calibri"/>
              </a:rPr>
              <a:t>атомов металлов</a:t>
            </a: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 и </a:t>
            </a:r>
            <a:r>
              <a:rPr b="0" lang="ru-RU" sz="4000" spc="-1" strike="noStrike" u="sng">
                <a:solidFill>
                  <a:srgbClr val="002060"/>
                </a:solidFill>
                <a:uFillTx/>
                <a:latin typeface="Calibri"/>
              </a:rPr>
              <a:t>гидроксильных</a:t>
            </a: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4000" spc="-1" strike="noStrike" u="sng">
                <a:solidFill>
                  <a:srgbClr val="002060"/>
                </a:solidFill>
                <a:uFillTx/>
                <a:latin typeface="Calibri"/>
              </a:rPr>
              <a:t>групп</a:t>
            </a: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ОН</a:t>
            </a: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2500200" y="3929040"/>
            <a:ext cx="4000680" cy="1008360"/>
          </a:xfrm>
          <a:prstGeom prst="rect">
            <a:avLst/>
          </a:prstGeom>
          <a:gradFill rotWithShape="0">
            <a:gsLst>
              <a:gs pos="0">
                <a:srgbClr val="89e7ff"/>
              </a:gs>
              <a:gs pos="100000">
                <a:srgbClr val="ddf8ff"/>
              </a:gs>
            </a:gsLst>
            <a:lin ang="16200000"/>
          </a:gradFill>
          <a:ln w="9360">
            <a:solidFill>
              <a:srgbClr val="00acd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Me(OH)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785880" y="5429160"/>
            <a:ext cx="764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= валентность метал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500040" y="214200"/>
            <a:ext cx="807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Классификация основа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Схема 3" descr=""/>
          <p:cNvPicPr/>
          <p:nvPr/>
        </p:nvPicPr>
        <p:blipFill>
          <a:blip r:embed="rId1"/>
          <a:stretch/>
        </p:blipFill>
        <p:spPr>
          <a:xfrm>
            <a:off x="0" y="1359000"/>
            <a:ext cx="9144000" cy="45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500040" y="785880"/>
          <a:ext cx="8143920" cy="4633920"/>
        </p:xfrm>
        <a:graphic>
          <a:graphicData uri="http://schemas.openxmlformats.org/drawingml/2006/table">
            <a:tbl>
              <a:tblPr/>
              <a:tblGrid>
                <a:gridCol w="4071960"/>
                <a:gridCol w="4071960"/>
              </a:tblGrid>
              <a:tr h="1368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af7f1"/>
                          </a:solidFill>
                          <a:latin typeface="Calibri"/>
                        </a:rPr>
                        <a:t>Щелоч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af7f1"/>
                          </a:solidFill>
                          <a:latin typeface="Calibri"/>
                        </a:rPr>
                        <a:t>Нерастворимые основан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26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  <p:sp>
        <p:nvSpPr>
          <p:cNvPr id="76" name="TextBox 3"/>
          <p:cNvSpPr/>
          <p:nvPr/>
        </p:nvSpPr>
        <p:spPr>
          <a:xfrm>
            <a:off x="1285920" y="2857680"/>
            <a:ext cx="264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O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O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(OH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4786200" y="2857680"/>
            <a:ext cx="3500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g(OH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e(OH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(OH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1"/>
          <p:cNvSpPr/>
          <p:nvPr/>
        </p:nvSpPr>
        <p:spPr>
          <a:xfrm>
            <a:off x="1071720" y="214200"/>
            <a:ext cx="692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Названия основан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500040" y="1857240"/>
            <a:ext cx="24289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Na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К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Mg(OH)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LiO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Fe(OH)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a(OH)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Al(OH)</a:t>
            </a: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2928960" y="1785960"/>
            <a:ext cx="2928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73af"/>
                </a:solidFill>
                <a:latin typeface="Calibri"/>
              </a:rPr>
              <a:t>гидрокси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73af"/>
                </a:solidFill>
                <a:latin typeface="Calibri"/>
              </a:rPr>
              <a:t>гидрокси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73af"/>
                </a:solidFill>
                <a:latin typeface="Calibri"/>
              </a:rPr>
              <a:t>гидрокси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73af"/>
                </a:solidFill>
                <a:latin typeface="Calibri"/>
              </a:rPr>
              <a:t>гидрокси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73af"/>
                </a:solidFill>
                <a:latin typeface="Calibri"/>
              </a:rPr>
              <a:t>гидрокси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73af"/>
                </a:solidFill>
                <a:latin typeface="Calibri"/>
              </a:rPr>
              <a:t>гидрокси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273af"/>
                </a:solidFill>
                <a:latin typeface="Calibri"/>
              </a:rPr>
              <a:t>гидрокси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5929200" y="1785960"/>
            <a:ext cx="207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т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5929200" y="2500200"/>
            <a:ext cx="192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г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5929200" y="3143160"/>
            <a:ext cx="207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5929200" y="3857760"/>
            <a:ext cx="192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жел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5929200" y="4500720"/>
            <a:ext cx="221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ль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5929200" y="5143680"/>
            <a:ext cx="307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люми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7729560" y="4540320"/>
            <a:ext cx="14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II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8:09:02Z</dcterms:created>
  <dc:creator>www.PHILka.RU</dc:creator>
  <dc:description/>
  <dc:language>en-US</dc:language>
  <cp:lastModifiedBy>Учитель химии</cp:lastModifiedBy>
  <dcterms:modified xsi:type="dcterms:W3CDTF">2024-02-15T04:25:27Z</dcterms:modified>
  <cp:revision>68</cp:revision>
  <dc:subject/>
  <dc:title>Слайд 1</dc:title>
</cp:coreProperties>
</file>